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20.png" ContentType="image/png"/>
  <Override PartName="/ppt/media/image2.jpeg" ContentType="image/jpe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4701A-90E0-4A08-82EF-8EE0CEE57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58664-63BB-4474-8DD6-DD74DAA6C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CA7FB-ED81-4EC2-B4C6-833DD00E1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D3D62-88D0-4311-B54C-6C1045613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7F151-B5C5-4EA8-A891-998463B4E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70130-B3F9-4485-87EC-465A82E71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17ABC-A2E3-4411-8430-40BF3A770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064AC-B022-472E-AE79-918E1AA31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6CCC1-CF07-4F3E-8A7F-7E43672BA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A2DD5-5DCF-4969-AE07-C6647280B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1539B-919C-4FE1-9207-603C94500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0D669-677E-4B55-B2D9-3FD2DFB40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70FCE-9A03-4792-9FC0-1204582C6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F6D0D-BC28-477A-A764-F1DD20969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A5741-97A3-441B-97B1-7516CD9F1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3486E-3644-46EC-9874-556E0992C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CD51B-DF4B-466F-BCFB-5BEFEF739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6A828B-BD07-4548-9F9E-DC3ADE1FE2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0DD45-2108-4C26-8031-B4F1CF31B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5BA5A-B83E-4D13-A581-A0A97BD2C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C9F25-E433-4692-A67A-D8009B6984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2815E3-161A-4339-A402-AB732CFAE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650FC-73E5-4A01-8F3B-9F0EAD350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D7B8E-78CB-4944-AB27-8D5D4DA4D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FEDE8-FCFD-447E-B102-E1E7DB84C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1243F-B983-4A3D-B00F-C669DC366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275AC-86A1-4140-AABC-AFAAA377A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49AE9-9C4A-4800-9E9D-4CE2733D1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5F010D-4868-4D93-A91F-C858FB526E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CA839D-7A72-4A2B-873E-516248DCA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0A566E-28B4-4C23-AC9D-AA822ACD7E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5D7C56-C8BE-4AAF-A61F-3E933BB31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71ABD3-0ABC-47F2-BE43-0F617333D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D427E-E74A-40CE-B16B-A981075D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BC0E60-0430-4573-8331-C2FE5CB4EB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18326-7CE5-4AC5-928B-F8D34B472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4115D-6175-4617-8732-78B4FE85C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95070-57F5-420C-B7ED-D147F24FE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FD63A-688F-4421-9C22-D060E8E94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42987-157A-4631-B5B2-D8D3954AD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CA4138-E871-4F85-AF86-F81A15DF74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2E6293-51EB-49C4-8C18-4FD3ABCF56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82F13E-61C9-4D7E-BF95-BAAFD1F691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F17918-0C34-4B10-A731-FFB0706AF8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4B61B-A3A1-4C94-89AF-468F44FB9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EEB38B-48F9-46F3-865B-0413E1D80E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2D25CE-122C-4BD2-A8DB-F6AE02A1B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34442-5711-4EA7-9755-EDE9739F4C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5A0D0-7CCC-4AFC-BB5A-01D2B2EEB3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547FE9-4E80-4FFB-99EC-10DAC544F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A6422-BDBA-4DB6-B4EB-F95E244714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7A7CD-743E-4D78-BB07-8B18E0531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0AC35-5DB2-4865-8C3A-E5A68259F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841AC-F9B0-470F-9B61-31B535EE06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806ACE-F8B6-439A-A60A-0FE7AD2BFD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8A9D4-2F14-41F5-9222-6191E369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CA3D41-E5FE-4DD2-810F-16BDB28911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FCD604D-418C-4BB2-8248-5246C1C20F3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B7174E-E39C-4A41-B3F4-16F430FC19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E342A5-81A0-47C5-AC2C-20BE4EAE53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4F8E7FB-A6E1-4371-AD6F-E5F7464E018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3DB286B-3A01-42FE-B363-7291DBE6B69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F8FA948-B97F-436F-8726-A3CE5756BC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134A8E6-C8C3-49EB-813E-83F36C75E08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9FE47B-BFAE-4521-BF08-60C6572A054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20A22A8-11F8-498D-AD37-05A560BD36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2CC8-BBC6-4ECA-AEB8-A9ED0B57C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37B0DA-E515-4A01-9DF4-97DCC1E906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6644ACD-AD1F-4A9D-A4B1-808A0E20CC8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5FFFA5A-0F8A-4248-A5F6-44CF058AED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FF16-F282-46C3-ACC3-59F12C5E7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C896-E7E8-4545-AA43-E15D4FC61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C2526A47-A6F7-4E12-897D-658973EE6E94}"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lt;date/time&gt;</a:t>
            </a:r>
            <a:endParaRPr b="0" lang="en-US" sz="1000" spc="-1" strike="noStrike">
              <a:solidFill>
                <a:srgbClr val="000000"/>
              </a:solidFill>
              <a:latin typeface="Arial Rounded MT Bold"/>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Rounded MT Bold"/>
              </a:rPr>
              <a:t>Slide Number: </a:t>
            </a:r>
            <a:fld id="{765F0C83-5A56-4FC1-80AB-B1FA5A543773}" type="slidenum">
              <a:rPr b="0" lang="en-US" sz="1100" spc="-1" strike="noStrike">
                <a:solidFill>
                  <a:srgbClr val="ffffff"/>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7BCA49B5-1D64-45E8-AB1D-B56FE3D927A6}"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Rounded MT Bold"/>
              </a:rPr>
              <a:t>&lt;date/time&gt;</a:t>
            </a:r>
            <a:endParaRPr b="0" lang="en-US" sz="1000" spc="-1" strike="noStrike">
              <a:solidFill>
                <a:srgbClr val="000000"/>
              </a:solidFill>
              <a:latin typeface="Arial Rounded MT Bold"/>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4e7ed"/>
                </a:solidFill>
                <a:latin typeface="Arial Rounded MT Bold"/>
              </a:rPr>
              <a:t>Slide Number: </a:t>
            </a:r>
            <a:fld id="{77AFD493-708F-47B6-B721-88C68A5FF8A3}" type="slidenum">
              <a:rPr b="0" lang="en-US" sz="1100" spc="-1" strike="noStrike">
                <a:solidFill>
                  <a:srgbClr val="f4e7ed"/>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239801A3-E342-4A91-BE5C-542F28B18603}"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4920"/>
            <a:ext cx="2895840" cy="47628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226" name="PlaceHolder 4"/>
          <p:cNvSpPr>
            <a:spLocks noGrp="1"/>
          </p:cNvSpPr>
          <p:nvPr>
            <p:ph type="sldNum" idx="17"/>
          </p:nvPr>
        </p:nvSpPr>
        <p:spPr>
          <a:xfrm>
            <a:off x="304920" y="6244920"/>
            <a:ext cx="167616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B600EC9A-4584-4D8C-B63B-3884C8FE9EB6}"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mething about Mrs. Camer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d from Elon Colle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ried with 2 girls; one marri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ynchburg Colleg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st Carolina Universit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4 cats: Checkers, Thumbelina, Salem, Sadi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2 grand puppies: Bella and Duk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ge Duke F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Favorite color is PURP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6" descr="bell duke.jpg"/>
          <p:cNvPicPr/>
          <p:nvPr/>
        </p:nvPicPr>
        <p:blipFill>
          <a:blip r:embed="rId2"/>
          <a:stretch/>
        </p:blipFill>
        <p:spPr>
          <a:xfrm>
            <a:off x="6248520" y="304920"/>
            <a:ext cx="25714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212760" y="317520"/>
            <a:ext cx="7493040" cy="1150920"/>
          </a:xfrm>
          <a:prstGeom prst="rect">
            <a:avLst/>
          </a:prstGeom>
          <a:ln w="0">
            <a:noFill/>
          </a:ln>
        </p:spPr>
      </p:pic>
      <p:sp>
        <p:nvSpPr>
          <p:cNvPr id="283" name=""/>
          <p:cNvSpPr txBox="1"/>
          <p:nvPr/>
        </p:nvSpPr>
        <p:spPr>
          <a:xfrm>
            <a:off x="457200" y="1609200"/>
            <a:ext cx="7238880" cy="4846680"/>
          </a:xfrm>
          <a:prstGeom prst="rect">
            <a:avLst/>
          </a:prstGeom>
          <a:noFill/>
          <a:ln w="0">
            <a:noFill/>
          </a:ln>
        </p:spPr>
        <p:txBody>
          <a:bodyPr anchor="t">
            <a:normAutofit fontScale="99000"/>
          </a:bodyPr>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veryday you will need to have a 3-ring binder for science with loose-leaf paper, pencils, sharpener, colored pencils, USB Drive, and computer.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ou will not receive a textbook.  There is a TECHbook that you will use for homework and class work assignments.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o view the Science Techbook go to www.discoveryeducation.com</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212760" y="317520"/>
            <a:ext cx="7493040" cy="1150920"/>
          </a:xfrm>
          <a:prstGeom prst="rect">
            <a:avLst/>
          </a:prstGeom>
          <a:ln w="0">
            <a:noFill/>
          </a:ln>
        </p:spPr>
      </p:pic>
      <p:sp>
        <p:nvSpPr>
          <p:cNvPr id="28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North Carolina End-of-Grade (EOG) is designed to measure student performance on the competencies specified in the goals and objectives of the Standard Course of Study in science at grade 8.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est is used to determine science class placement in high school and is used in determining the school AYP score.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s are calculated using three main categorie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Projects/Labs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 work/Home work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lets =10%</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12760" y="317520"/>
            <a:ext cx="7493040" cy="1150920"/>
          </a:xfrm>
          <a:prstGeom prst="rect">
            <a:avLst/>
          </a:prstGeom>
          <a:ln w="0">
            <a:noFill/>
          </a:ln>
        </p:spPr>
      </p:pic>
      <p:sp>
        <p:nvSpPr>
          <p:cNvPr id="28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purpose of homework is to reinforce what students learned in class</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 not give often so when I do you need to complete it.</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st of the time its to finish something started in clas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2" descr=""/>
          <p:cNvPicPr/>
          <p:nvPr/>
        </p:nvPicPr>
        <p:blipFill>
          <a:blip r:embed="rId1"/>
          <a:stretch/>
        </p:blipFill>
        <p:spPr>
          <a:xfrm>
            <a:off x="212760" y="317520"/>
            <a:ext cx="7493040" cy="1150920"/>
          </a:xfrm>
          <a:prstGeom prst="rect">
            <a:avLst/>
          </a:prstGeom>
          <a:ln w="0">
            <a:noFill/>
          </a:ln>
        </p:spPr>
      </p:pic>
      <p:sp>
        <p:nvSpPr>
          <p:cNvPr id="29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bsent students must turn in missing work.  The number of days you have to make up the missing assignments is equivalent to the  number of days you were abs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need a print out of a worksheet or assignment please let me kno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responsible for getting your missing work.  Ask 3 friends and then m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212760" y="317520"/>
            <a:ext cx="7493040" cy="1150920"/>
          </a:xfrm>
          <a:prstGeom prst="rect">
            <a:avLst/>
          </a:prstGeom>
          <a:ln w="0">
            <a:noFill/>
          </a:ln>
        </p:spPr>
      </p:pic>
      <p:sp>
        <p:nvSpPr>
          <p:cNvPr id="293" name=""/>
          <p:cNvSpPr txBox="1"/>
          <p:nvPr/>
        </p:nvSpPr>
        <p:spPr>
          <a:xfrm>
            <a:off x="457200" y="1609200"/>
            <a:ext cx="7238880" cy="484668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evaluate student understanding of goals and objectives of the standard course of study, tests are given at the end of each goal.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izzes are given to check understanding on key items such as vocabulary.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tests are given once each quarter by the school district to check overall understanding of the science topics taught during the previous nine weeks.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and EOG scores are not reflected in the student’s overall score for the class however please do your best.  The only way I can help you improve is to know what you don’t underst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67" descr=""/>
          <p:cNvPicPr/>
          <p:nvPr/>
        </p:nvPicPr>
        <p:blipFill>
          <a:blip r:embed="rId1"/>
          <a:stretch/>
        </p:blipFill>
        <p:spPr>
          <a:xfrm>
            <a:off x="212760" y="268200"/>
            <a:ext cx="8480520" cy="884160"/>
          </a:xfrm>
          <a:prstGeom prst="rect">
            <a:avLst/>
          </a:prstGeom>
          <a:ln w="0">
            <a:noFill/>
          </a:ln>
        </p:spPr>
      </p:pic>
      <p:graphicFrame>
        <p:nvGraphicFramePr>
          <p:cNvPr id="295" name=""/>
          <p:cNvGraphicFramePr/>
          <p:nvPr/>
        </p:nvGraphicFramePr>
        <p:xfrm>
          <a:off x="304920" y="1295280"/>
          <a:ext cx="7848360" cy="5197680"/>
        </p:xfrm>
        <a:graphic>
          <a:graphicData uri="http://schemas.openxmlformats.org/drawingml/2006/table">
            <a:tbl>
              <a:tblPr/>
              <a:tblGrid>
                <a:gridCol w="4114800"/>
                <a:gridCol w="3733560"/>
              </a:tblGrid>
              <a:tr h="49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chool Wide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Class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ractice Honest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Hones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ct Responsibl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ompt ; On time, in seat, ready to go</a:t>
                      </a:r>
                      <a:endParaRPr b="0" lang="en-US" sz="2000" spc="-1" strike="noStrike">
                        <a:solidFill>
                          <a:srgbClr val="ffffff"/>
                        </a:solidFill>
                        <a:latin typeface="Arial Rounded MT Bold"/>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epared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e to class with all needed materials</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Others With Respec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Respectful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people the way you want to be treated</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ve Self Discipline</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Engaged</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llow directions</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aise your hand before speaking or getting out of your seat </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212760" y="317520"/>
            <a:ext cx="7493040" cy="1150920"/>
          </a:xfrm>
          <a:prstGeom prst="rect">
            <a:avLst/>
          </a:prstGeom>
          <a:ln w="0">
            <a:noFill/>
          </a:ln>
        </p:spPr>
      </p:pic>
      <p:sp>
        <p:nvSpPr>
          <p:cNvPr id="297" name=""/>
          <p:cNvSpPr txBox="1"/>
          <p:nvPr/>
        </p:nvSpPr>
        <p:spPr>
          <a:xfrm>
            <a:off x="457200" y="1609200"/>
            <a:ext cx="7238880" cy="4846680"/>
          </a:xfrm>
          <a:prstGeom prst="rect">
            <a:avLst/>
          </a:prstGeom>
          <a:noFill/>
          <a:ln w="0">
            <a:noFill/>
          </a:ln>
        </p:spPr>
        <p:txBody>
          <a:bodyPr anchor="t">
            <a:normAutofit/>
          </a:bodyPr>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ollow directions</a:t>
            </a:r>
            <a:r>
              <a:rPr b="0" lang="en-US" sz="3000" spc="-1" strike="noStrike">
                <a:solidFill>
                  <a:srgbClr val="000000"/>
                </a:solidFill>
                <a:latin typeface="Trebuchet MS"/>
              </a:rPr>
              <a:t> given by the teacher(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prepared.</a:t>
            </a:r>
            <a:r>
              <a:rPr b="0" lang="en-US" sz="3000" spc="-1" strike="noStrike">
                <a:solidFill>
                  <a:srgbClr val="000000"/>
                </a:solidFill>
                <a:latin typeface="Trebuchet MS"/>
              </a:rPr>
              <a:t>  Bring your pencil, spiral notebook and 3 ring binder with paper to each class. (Sharpen pencils before class begin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on time.</a:t>
            </a:r>
            <a:r>
              <a:rPr b="0" lang="en-US" sz="3000" spc="-1" strike="noStrike">
                <a:solidFill>
                  <a:srgbClr val="000000"/>
                </a:solidFill>
                <a:latin typeface="Trebuchet MS"/>
              </a:rPr>
              <a:t>  Class begins promptly – you must be in your seat at that time.  </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Stay seated and quiet.</a:t>
            </a:r>
            <a:r>
              <a:rPr b="0" lang="en-US" sz="3000" spc="-1" strike="noStrike">
                <a:solidFill>
                  <a:srgbClr val="000000"/>
                </a:solidFill>
                <a:latin typeface="Trebuchet MS"/>
              </a:rPr>
              <a:t>  Raise your hand before asking or answering questions.  No talking or getting out of seats without permission. Class time is for SCIENCE work only.  </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Be courteous and respectful</a:t>
            </a:r>
            <a:r>
              <a:rPr b="0" lang="en-US" sz="2700" spc="-1" strike="noStrike">
                <a:solidFill>
                  <a:srgbClr val="000000"/>
                </a:solidFill>
                <a:latin typeface="Trebuchet MS"/>
              </a:rPr>
              <a:t> to the teacher(s) and other students at all times.  Also, have respect for school (and other people’s) property.</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Remain in your seats</a:t>
            </a:r>
            <a:r>
              <a:rPr b="0" lang="en-US" sz="2700" spc="-1" strike="noStrike">
                <a:solidFill>
                  <a:srgbClr val="000000"/>
                </a:solidFill>
                <a:latin typeface="Trebuchet MS"/>
              </a:rPr>
              <a:t> until you are dismissed at the end of the class.</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Pay attention</a:t>
            </a:r>
            <a:r>
              <a:rPr b="0" lang="en-US" sz="2700" spc="-1" strike="noStrike">
                <a:solidFill>
                  <a:srgbClr val="000000"/>
                </a:solidFill>
                <a:latin typeface="Trebuchet MS"/>
              </a:rPr>
              <a:t> to lesson being taught and ask questions when you don’t understand.</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Work hard</a:t>
            </a:r>
            <a:r>
              <a:rPr b="0" lang="en-US" sz="2700" spc="-1" strike="noStrike">
                <a:solidFill>
                  <a:srgbClr val="000000"/>
                </a:solidFill>
                <a:latin typeface="Trebuchet MS"/>
              </a:rPr>
              <a:t> while at school and stay on task.</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ALL SCHOOL RULES are in effect in this classroom at ALL TIMES.</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12760" y="317520"/>
            <a:ext cx="7493040" cy="1150920"/>
          </a:xfrm>
          <a:prstGeom prst="rect">
            <a:avLst/>
          </a:prstGeom>
          <a:ln w="0">
            <a:noFill/>
          </a:ln>
        </p:spPr>
      </p:pic>
      <p:sp>
        <p:nvSpPr>
          <p:cNvPr id="301"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when they enter the classroom</a:t>
            </a:r>
            <a:endParaRPr b="0" lang="en-US" sz="2600" spc="-1" strike="noStrike">
              <a:solidFill>
                <a:srgbClr val="000000"/>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ke out the materials you will use in this class.</a:t>
            </a:r>
            <a:endParaRPr b="0" lang="en-US" sz="2300" spc="-1" strike="noStrike">
              <a:solidFill>
                <a:srgbClr val="6c6c6c"/>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art working on the warm-up assignment immediately.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ydrosphere</a:t>
            </a:r>
            <a:endParaRPr b="0" lang="en-US" sz="24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A) Explain the structure of the hydrosphere including: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Water distribution on earth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Local river basin and water availability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B) Summarize evidence that Earth’s oceans are a reservoir of nutrients, minerals, dissolved gases, and life form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Estuarie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Marine ecosystem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Upwelling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Behavior of gases in the marine environment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Value and sustainability of marine resource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Deep ocean technology and understandings gained</a:t>
            </a:r>
            <a:endParaRPr b="0" lang="en-US" sz="1900" spc="-1" strike="noStrike">
              <a:solidFill>
                <a:srgbClr val="6c6c6c"/>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endParaRPr b="0" lang="en-US" sz="1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2" descr=""/>
          <p:cNvPicPr/>
          <p:nvPr/>
        </p:nvPicPr>
        <p:blipFill>
          <a:blip r:embed="rId1"/>
          <a:stretch/>
        </p:blipFill>
        <p:spPr>
          <a:xfrm>
            <a:off x="212760" y="317520"/>
            <a:ext cx="7493040" cy="115092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a:bodyPr>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at dismissal of class / when bell ring</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You are to remain in your seat until I dismiss the class.  The bell does not dismiss the class.  You do not dismiss the class.  The Teacher dismisses the class.  </a:t>
            </a:r>
            <a:endParaRPr b="0" lang="en-US" sz="2300" spc="-1" strike="noStrike">
              <a:solidFill>
                <a:srgbClr val="6c6c6c"/>
              </a:solidFill>
              <a:latin typeface="Trebuchet MS"/>
            </a:endParaRPr>
          </a:p>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Criteria for Dismissal</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ean desk, work area and put chairs under table. Last class chairs go on table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755640"/>
          </a:xfrm>
          <a:prstGeom prst="rect">
            <a:avLst/>
          </a:prstGeom>
          <a:ln w="0">
            <a:noFill/>
          </a:ln>
        </p:spPr>
      </p:pic>
      <p:sp>
        <p:nvSpPr>
          <p:cNvPr id="305" name=""/>
          <p:cNvSpPr txBox="1"/>
          <p:nvPr/>
        </p:nvSpPr>
        <p:spPr>
          <a:xfrm>
            <a:off x="457200" y="1523520"/>
            <a:ext cx="7238880" cy="4932360"/>
          </a:xfrm>
          <a:prstGeom prst="rect">
            <a:avLst/>
          </a:prstGeom>
          <a:noFill/>
          <a:ln w="0">
            <a:noFill/>
          </a:ln>
        </p:spPr>
        <p:txBody>
          <a:bodyPr anchor="t">
            <a:normAutofit/>
          </a:bodyPr>
          <a:p>
            <a:pPr marL="318960" indent="-31896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ignal for your immediate attention</a:t>
            </a:r>
            <a:endParaRPr b="0" lang="en-US" sz="3600" spc="-1" strike="noStrike">
              <a:solidFill>
                <a:srgbClr val="000000"/>
              </a:solidFill>
              <a:latin typeface="Trebuchet MS"/>
            </a:endParaRPr>
          </a:p>
          <a:p>
            <a:pPr lvl="1" marL="639720" indent="-2728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When you see me raise my hand or turn off the lights, I need you to do the following:</a:t>
            </a:r>
            <a:endParaRPr b="0" lang="en-US" sz="3200" spc="-1" strike="noStrike">
              <a:solidFill>
                <a:srgbClr val="6c6c6c"/>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c6c6c"/>
                </a:solidFill>
                <a:latin typeface="Trebuchet MS"/>
              </a:rPr>
              <a:t>Freeze and stop talking</a:t>
            </a:r>
            <a:endParaRPr b="0" lang="en-US" sz="29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Turn and face me; pay attention and keep your eyes on me.</a:t>
            </a:r>
            <a:endParaRPr b="0" lang="en-US" sz="32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Be ready for instruction.  I will have something to sa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12760" y="317520"/>
            <a:ext cx="7493040" cy="1150920"/>
          </a:xfrm>
          <a:prstGeom prst="rect">
            <a:avLst/>
          </a:prstGeom>
          <a:ln w="0">
            <a:noFill/>
          </a:ln>
        </p:spPr>
      </p:pic>
      <p:sp>
        <p:nvSpPr>
          <p:cNvPr id="307" name=""/>
          <p:cNvSpPr txBox="1"/>
          <p:nvPr/>
        </p:nvSpPr>
        <p:spPr>
          <a:xfrm>
            <a:off x="457200" y="1609200"/>
            <a:ext cx="7238880" cy="4846680"/>
          </a:xfrm>
          <a:prstGeom prst="rect">
            <a:avLst/>
          </a:prstGeom>
          <a:noFill/>
          <a:ln w="0">
            <a:noFill/>
          </a:ln>
        </p:spPr>
        <p:txBody>
          <a:bodyPr anchor="t">
            <a:normAutofit/>
          </a:bodyPr>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finish work early</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Start working on your homework, assignment or see me for extension work on the topic.</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a school wide announcement is made</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During announcements, you are to sit quietly (no talking) in your seat and listen and/or watch the announcement.  We do not want to miss important school information.</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visitors are in the classroom</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Continue to work quietly if a visitor enters the room.  I will alert you if I need your attention.</a:t>
            </a:r>
            <a:endParaRPr b="0" lang="en-US" sz="27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212760" y="317520"/>
            <a:ext cx="7493040" cy="1150920"/>
          </a:xfrm>
          <a:prstGeom prst="rect">
            <a:avLst/>
          </a:prstGeom>
          <a:ln w="0">
            <a:noFill/>
          </a:ln>
        </p:spPr>
      </p:pic>
      <p:sp>
        <p:nvSpPr>
          <p:cNvPr id="309" name=""/>
          <p:cNvSpPr txBox="1"/>
          <p:nvPr/>
        </p:nvSpPr>
        <p:spPr>
          <a:xfrm>
            <a:off x="456840" y="1609200"/>
            <a:ext cx="762012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Responding to fire drill</a:t>
            </a:r>
            <a:endParaRPr b="0" lang="en-US" sz="26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At the sound of the alarm, quietly stop working and form a single file line at the door.  Wait until I open the door, then proceed quietly to our designated area in a single file line.  Maintain the single file line while outside and when returning to the classroom.</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re is to be NO talking, or horseplay during a fire drill.</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se at the be taken seriously!!  Your life could depend on it one day!</a:t>
            </a:r>
            <a:endParaRPr b="0" lang="en-US" sz="2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17520"/>
            <a:ext cx="7493040" cy="11509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en walking to another location, all students will line up in the hallway and silently walk in a single file line.</a:t>
            </a:r>
            <a:endParaRPr b="0" lang="en-US" sz="2600" spc="-1" strike="noStrike">
              <a:solidFill>
                <a:srgbClr val="000000"/>
              </a:solidFill>
              <a:latin typeface="Trebuchet MS"/>
            </a:endParaRPr>
          </a:p>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 we do not disturb other classes.</a:t>
            </a:r>
            <a:endParaRPr b="0" lang="en-US" sz="2600" spc="-1" strike="noStrike">
              <a:solidFill>
                <a:srgbClr val="000000"/>
              </a:solidFill>
              <a:latin typeface="Trebuchet MS"/>
            </a:endParaRPr>
          </a:p>
        </p:txBody>
      </p:sp>
      <p:pic>
        <p:nvPicPr>
          <p:cNvPr id="312" name="Picture 4" descr="MPj04395830000[1]"/>
          <p:cNvPicPr/>
          <p:nvPr/>
        </p:nvPicPr>
        <p:blipFill>
          <a:blip r:embed="rId2"/>
          <a:stretch/>
        </p:blipFill>
        <p:spPr>
          <a:xfrm>
            <a:off x="2514600" y="3657600"/>
            <a:ext cx="439092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12760" y="317520"/>
            <a:ext cx="7493040" cy="834840"/>
          </a:xfrm>
          <a:prstGeom prst="rect">
            <a:avLst/>
          </a:prstGeom>
          <a:ln w="0">
            <a:noFill/>
          </a:ln>
        </p:spPr>
      </p:pic>
      <p:sp>
        <p:nvSpPr>
          <p:cNvPr id="31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a no tolerance for inappropriate behavior during a laboratory activ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be asked once to stop the inappropriate behavi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second time it occurs the student will be asked to stand in the hall until the activity is complet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2760" y="317520"/>
            <a:ext cx="7493040" cy="1150920"/>
          </a:xfrm>
          <a:prstGeom prst="rect">
            <a:avLst/>
          </a:prstGeom>
          <a:ln w="0">
            <a:noFill/>
          </a:ln>
        </p:spPr>
      </p:pic>
      <p:sp>
        <p:nvSpPr>
          <p:cNvPr id="31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r. Marshall is the 8</a:t>
            </a:r>
            <a:r>
              <a:rPr b="0" lang="en-US" sz="2600" spc="-1" strike="noStrike" baseline="30000">
                <a:solidFill>
                  <a:srgbClr val="000000"/>
                </a:solidFill>
                <a:latin typeface="Trebuchet MS"/>
              </a:rPr>
              <a:t>th</a:t>
            </a:r>
            <a:r>
              <a:rPr b="0" lang="en-US" sz="2600" spc="-1" strike="noStrike">
                <a:solidFill>
                  <a:srgbClr val="000000"/>
                </a:solidFill>
                <a:latin typeface="Trebuchet MS"/>
              </a:rPr>
              <a:t> Grade Administrat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ules &amp; Procedures are designed to keep you OUT of his off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behavior is preventing me from teaching or preventing students from learning, I will do something about i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212760" y="317520"/>
            <a:ext cx="7493040" cy="1150920"/>
          </a:xfrm>
          <a:prstGeom prst="rect">
            <a:avLst/>
          </a:prstGeom>
          <a:ln w="0">
            <a:noFill/>
          </a:ln>
        </p:spPr>
      </p:pic>
      <p:sp>
        <p:nvSpPr>
          <p:cNvPr id="31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I see inappropriate behavior, I will deal with it. You may not always know.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don’t think I saw it or know about it, report it to me and I will watch for i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air doesn’t mean equal – we don’t treat everyone the same.  Sometimes for reasons I’m not allowed to discuss with you.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212760" y="317520"/>
            <a:ext cx="7493040" cy="1150920"/>
          </a:xfrm>
          <a:prstGeom prst="rect">
            <a:avLst/>
          </a:prstGeom>
          <a:ln w="0">
            <a:noFill/>
          </a:ln>
        </p:spPr>
      </p:pic>
      <p:sp>
        <p:nvSpPr>
          <p:cNvPr id="32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a recent study, it was determined that an average teacher makes close to 3000 decisions a d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 going to make mistakes! I’m hum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aren’t happy with a decision I make, I would like to know about it. Lets discuss it one on on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212760" y="317520"/>
            <a:ext cx="7493040" cy="1150920"/>
          </a:xfrm>
          <a:prstGeom prst="rect">
            <a:avLst/>
          </a:prstGeom>
          <a:ln w="0">
            <a:noFill/>
          </a:ln>
        </p:spPr>
      </p:pic>
      <p:sp>
        <p:nvSpPr>
          <p:cNvPr id="269" name="Rectangle 2"/>
          <p:cNvSpPr/>
          <p:nvPr/>
        </p:nvSpPr>
        <p:spPr>
          <a:xfrm>
            <a:off x="533520" y="1905120"/>
            <a:ext cx="7162560" cy="3751560"/>
          </a:xfrm>
          <a:prstGeom prst="rect">
            <a:avLst/>
          </a:prstGeom>
          <a:noFill/>
          <a:ln w="0">
            <a:noFill/>
          </a:ln>
        </p:spPr>
        <p:style>
          <a:lnRef idx="0"/>
          <a:fillRef idx="0"/>
          <a:effectRef idx="0"/>
          <a:fontRef idx="minor"/>
        </p:style>
        <p:txBody>
          <a:bodyPr lIns="90000" rIns="90000" tIns="46800" bIns="46800" anchor="t">
            <a:spAutoFit/>
          </a:bodyPr>
          <a:p>
            <a:pPr>
              <a:buClr>
                <a:srgbClr val="b13f9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cience Inquiry</a:t>
            </a: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Measurement-The metric system is use by all Scientists</a:t>
            </a:r>
            <a:endParaRPr b="0" lang="en-US" sz="2400" spc="-1" strike="noStrike">
              <a:solidFill>
                <a:srgbClr val="ffffff"/>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Scientific Method- There is a format of which scientist write a formal lab report</a:t>
            </a:r>
            <a:endParaRPr b="0" lang="en-US" sz="2400" spc="-1" strike="noStrike">
              <a:solidFill>
                <a:srgbClr val="ffffff"/>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Lab Safety- Special rules apply when in the science laboratory.  These must followed to assure the safety of all!</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17520"/>
            <a:ext cx="7493040" cy="1150920"/>
          </a:xfrm>
          <a:prstGeom prst="rect">
            <a:avLst/>
          </a:prstGeom>
          <a:ln w="0">
            <a:noFill/>
          </a:ln>
        </p:spPr>
      </p:pic>
      <p:sp>
        <p:nvSpPr>
          <p:cNvPr id="271" name=""/>
          <p:cNvSpPr txBox="1"/>
          <p:nvPr/>
        </p:nvSpPr>
        <p:spPr>
          <a:xfrm>
            <a:off x="990720" y="1219320"/>
            <a:ext cx="8153280" cy="50292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 Predict the safety and portability of water supplies in North Carolina based on physical and biological factors, including: </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Temperature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Dissolved oxygen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pH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Nitrates and phosphates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Turbidity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Bio-indicators </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 Conclude that the good health of humans requires: </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onitoring of the hydrosphere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Water quality standards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ethods of water treatment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aintaining safe water quality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Stewardship </a:t>
            </a:r>
            <a:endParaRPr b="0" lang="en-US" sz="18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Structures and Functions of Living Organisms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the hazards caused by agents of diseases that effect living organism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how biotechnology is used to affect living organisms.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Molecular Biology </a:t>
            </a:r>
            <a:r>
              <a:rPr b="1" lang="en-US" sz="2600" spc="-1" strike="noStrike">
                <a:solidFill>
                  <a:srgbClr val="000000"/>
                </a:solidFill>
                <a:latin typeface="Trebuchet MS"/>
              </a:rPr>
              <a:t>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the composition of various substances as it relates to their ability to serve as a source of energy and building materials for growth and repair of organisms. </a:t>
            </a:r>
            <a:r>
              <a:rPr b="1"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212760" y="317520"/>
            <a:ext cx="7493040" cy="1150920"/>
          </a:xfrm>
          <a:prstGeom prst="rect">
            <a:avLst/>
          </a:prstGeom>
          <a:ln w="0">
            <a:noFill/>
          </a:ln>
        </p:spPr>
      </p:pic>
      <p:sp>
        <p:nvSpPr>
          <p:cNvPr id="275" name=""/>
          <p:cNvSpPr txBox="1"/>
          <p:nvPr/>
        </p:nvSpPr>
        <p:spPr>
          <a:xfrm>
            <a:off x="456840" y="1609560"/>
            <a:ext cx="7620120" cy="501984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Geological Time</a:t>
            </a:r>
            <a:endParaRPr b="0" lang="en-US" sz="26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lvl="1" marL="633240" indent="-270000">
              <a:lnSpc>
                <a:spcPct val="6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Explain the relationship between genetic</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variation and an organism’s ability to adapt to</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its environment</a:t>
            </a:r>
            <a:endParaRPr b="0" lang="en-US" sz="2300" spc="-1" strike="noStrike">
              <a:solidFill>
                <a:srgbClr val="6c6c6c"/>
              </a:solidFill>
              <a:latin typeface="Trebuchet MS"/>
            </a:endParaRPr>
          </a:p>
          <a:p>
            <a:pPr lvl="1" marL="633240" indent="-270000">
              <a:lnSpc>
                <a:spcPct val="6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t>
            </a:r>
            <a:r>
              <a:rPr b="0" lang="en-US" sz="2300" spc="-1" strike="noStrike">
                <a:solidFill>
                  <a:srgbClr val="6c6c6c"/>
                </a:solidFill>
                <a:latin typeface="Trebuchet MS"/>
              </a:rPr>
              <a:t>	</a:t>
            </a:r>
            <a:r>
              <a:rPr b="0" lang="en-US" sz="2300" spc="-1" strike="noStrike">
                <a:solidFill>
                  <a:srgbClr val="6c6c6c"/>
                </a:solidFill>
                <a:latin typeface="Trebuchet MS"/>
              </a:rPr>
              <a:t>Summarize the use of evidence drawn from</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geology, fossils, and comparative anatomy to</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form the basis for biological classification systems and the theory of evolution.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633240" indent="-270000">
              <a:lnSpc>
                <a:spcPct val="8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 Infer the age of Earth and relative age of rocks and fossils from index fossils and ordering of rock layers (relative dating and radioactive dating). </a:t>
            </a:r>
            <a:endParaRPr b="0" lang="en-US" sz="2300" spc="-1" strike="noStrike">
              <a:solidFill>
                <a:srgbClr val="6c6c6c"/>
              </a:solidFill>
              <a:latin typeface="Trebuchet MS"/>
            </a:endParaRPr>
          </a:p>
          <a:p>
            <a:pPr lvl="1" marL="633240" indent="-270000">
              <a:lnSpc>
                <a:spcPct val="8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  Explain the use of fossils, ice cores, composition of sedimentary rocks, faults, and igneous rock formations found in rock layers as evidence of the history of the Earth and its changing life forms.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633240" indent="-27000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c6c6c"/>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212760" y="317520"/>
            <a:ext cx="7493040" cy="1150920"/>
          </a:xfrm>
          <a:prstGeom prst="rect">
            <a:avLst/>
          </a:prstGeom>
          <a:ln w="0">
            <a:noFill/>
          </a:ln>
        </p:spPr>
      </p:pic>
      <p:sp>
        <p:nvSpPr>
          <p:cNvPr id="277" name=""/>
          <p:cNvSpPr txBox="1"/>
          <p:nvPr/>
        </p:nvSpPr>
        <p:spPr>
          <a:xfrm>
            <a:off x="457200" y="1609200"/>
            <a:ext cx="7238880" cy="4846680"/>
          </a:xfrm>
          <a:prstGeom prst="rect">
            <a:avLst/>
          </a:prstGeom>
          <a:noFill/>
          <a:ln w="0">
            <a:noFill/>
          </a:ln>
        </p:spPr>
        <p:txBody>
          <a:bodyPr anchor="t">
            <a:normAutofit fontScale="98000"/>
          </a:bodyPr>
          <a:p>
            <a:pPr marL="312480" indent="-312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Chemistry</a:t>
            </a:r>
            <a:r>
              <a:rPr b="1" lang="en-US" sz="2400" spc="-1" strike="noStrike">
                <a:solidFill>
                  <a:srgbClr val="000000"/>
                </a:solidFill>
                <a:latin typeface="Trebuchet MS"/>
              </a:rPr>
              <a:t>.</a:t>
            </a:r>
            <a:endParaRPr b="0" lang="en-US" sz="24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Classify matter as elements, compounds, or mixtures based on how the atoms are packed together in arrangements.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B) Explain how the physical properties of elements and their reactivity have been used to produce the current model of the Periodic Table of elements.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 Compare physical changes such as size, shape and state to chemical changes that are the result of a chemical reaction to include changes in temperature, color, formation of a gas or precipitate.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 Explain how the idea of atoms and a balanced chemical equation support the law of conservation of mass. </a:t>
            </a:r>
            <a:r>
              <a:rPr b="0" lang="en-US" sz="2100" spc="-1" strike="noStrike">
                <a:solidFill>
                  <a:srgbClr val="6c6c6c"/>
                </a:solidFill>
                <a:latin typeface="Trebuchet MS"/>
              </a:rPr>
              <a:t>	</a:t>
            </a:r>
            <a:endParaRPr b="0" lang="en-US" sz="2100" spc="-1" strike="noStrike">
              <a:solidFill>
                <a:srgbClr val="6c6c6c"/>
              </a:solidFill>
              <a:latin typeface="Trebuchet MS"/>
            </a:endParaRPr>
          </a:p>
          <a:p>
            <a:pPr lvl="1" marL="510120" indent="-223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312480" indent="-3124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12480" indent="-3124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12760" y="317520"/>
            <a:ext cx="7493040" cy="115092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Energy: Conservation and Transfer</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Explain the environmental consequences of the various methods of obtaining, transforming, and distributing energy.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 Explain the implications of the depletion of renewable and nonrenewable energy resources and the importance of conservation.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212760" y="317520"/>
            <a:ext cx="7493040" cy="1150920"/>
          </a:xfrm>
          <a:prstGeom prst="rect">
            <a:avLst/>
          </a:prstGeom>
          <a:ln w="0">
            <a:noFill/>
          </a:ln>
        </p:spPr>
      </p:pic>
      <p:sp>
        <p:nvSpPr>
          <p:cNvPr id="28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system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ow food, water, shelter, and space effect population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roducers, consumers, and decomposer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ood webs</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3:12:50Z</dcterms:created>
  <dc:creator>Eric Loveday</dc:creator>
  <dc:description/>
  <dc:language>en-US</dc:language>
  <cp:lastModifiedBy>jcameron</cp:lastModifiedBy>
  <dcterms:modified xsi:type="dcterms:W3CDTF">2012-08-27T16:32:25Z</dcterms:modified>
  <cp:revision>79</cp:revision>
  <dc:subject/>
  <dc:title>Biology  Mr. Loveday</dc:title>
</cp:coreProperties>
</file>